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B899E-8F49-4638-9F0C-7557ABCC9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DF1D6-34C3-483D-80DC-FD5565E25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7ED6E-5D48-4C7C-8E1F-89DB2384E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5A80A-3164-4ED3-8C12-60BE6E334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2BFBB0-4A05-446E-8358-D2E26BCBF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57192E-24DA-40C4-AF02-B1E896DB6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A388C0-3BBB-4DF7-A4A5-A8DA65541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EFFD25-FFFC-4AE9-9874-231BF1FA0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70161E-35CD-4E19-8843-AE7C27DCD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03D374-BA1A-4071-AD58-C33565637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F93097-536E-4F66-9CA5-F29FCD22E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8D829-5CCB-4E12-BA00-49FAA437A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8A29E1-CC4D-442C-9C6B-F5FF2C076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9739C5-96E2-4A21-84ED-F1328203C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A5BEA8-B46F-4AFB-8800-269D81B44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D34A486-DFAA-4389-82C0-663699A3C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1550A49-7943-4331-9085-F6781E276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EF3339-9364-456F-947A-C030297A49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38702-D7B5-4663-A05C-B7DDD8BDB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93132-C1E7-4027-8F83-83CFC2C20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55DAA2-2E18-49D8-B8AF-1CC1F72AD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EC07FA-B7AB-4EF5-AD96-01801FCF7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530F3-0D11-443F-8D7C-D56B4B800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54939-0906-4258-8C1F-81AD39F7E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27CE3-4F16-4551-AFBB-B989E3B4E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ACFEF-1FA0-4D11-A5D4-E9E287C88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F2709-18F5-4E06-9DFE-7571C1335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41F46-8017-444C-8CB5-CA1D40D9A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115369-A241-4F85-83FC-9B9DC59861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7778F1-2908-4E99-B780-F1F10FD6D4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D99B942F-6666-4457-8CA6-7B76F87B585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D145E62-B8F3-4433-88D4-1BE009EE52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205664A-0ED0-48FE-9706-E99C5ECEB3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C1C64-5BBB-4E7A-85AF-1E3CCE08E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DE13351-152F-4659-8AD5-8BC0EBB887B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A6043C2-52E5-4AA5-A1C0-EAB4E9487EE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3C94444-4412-4593-92E5-8645E232783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7C4800D-E616-4757-A979-3F4F9DF769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12EC21F-B61F-4563-B402-55B1CE649E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7131711-9B0F-4B61-B17B-7C5AEF4EAB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3E08553-2B54-4B42-8219-F9807C202AC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D0BB06D-3534-44B1-AB6A-B7D8DD5A241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863274E9-B9B5-4850-8191-E39DDF5EEAB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9B95FFB-BF5C-45D4-837C-03A30E2D83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9DA41-5BF2-4966-98BB-196FD4FA0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54D801-190D-44BC-AE7F-83280A9B1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46B1A98-1BED-4069-845A-762D011D7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3DAAFDE-ED21-4BF3-9DC1-FB299E6B39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19399B-EBF9-4199-9EA5-FA3DABBA9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762DAF-62CA-4659-88D7-70CE1B9AD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E584C0-4770-475A-895E-EFFF5199E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9A50EC-6EDF-4268-AD62-8A1F02E1AC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1E1D12-3723-476E-98DA-15F3A36E5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0D93A8-CAC4-413E-80F2-918736C6AE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3E78ABE-C825-4CDE-947C-C1CBAA377A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EC83D-C155-4192-B1A3-E8514C940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09AE13C-4452-4194-91D7-CD18DE1B87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EBB0165-C548-4B81-ADA3-FC2A238DC0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DEDCE57-794E-4F1A-B28B-6DDB18CAE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77AA284-14CB-44BD-B559-E1D2117B9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337979D-7714-4EB0-BD16-40AC774CEE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CDA3678-D2A0-4B06-A500-6EA3F44562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93A5956-D7A4-4B2F-B50E-E04A693D2F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36044AD-BB88-4A46-A20F-704CD2395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0F96C6-95CA-4241-98AE-18F543D81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DA2649-8EFC-405A-ADDA-631105F7F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DE9A-AB14-4A00-8A16-5FFB3BD6B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A45675-7351-4395-A718-4FEC2E7EE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E319620-D23C-481C-83BF-85DAA8D164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2FD6ADB-B790-4C10-BD2F-6022262DE4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18849-8EAC-4627-8D9F-4EAA24102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A090-2298-4F37-96EE-46702E4F1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EF9D-FE7B-417B-BE79-02DF210AA886}"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F966-6AF1-414D-99ED-FA0FCE87883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F6F4-B97C-4A1B-B446-8204668BE95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74BF-A8C3-49D0-B235-F9FC8EDC5521}"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93E6-79FC-4F20-904E-C35B01A6BB3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4518-368D-4971-9F5C-ECDAF56F6FA1}"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Emerging Technology</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H. Humphrey</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October 2009</a:t>
            </a:r>
            <a:endParaRPr b="0" lang="en-US" sz="2200" spc="-1" strike="noStrike">
              <a:solidFill>
                <a:srgbClr val="ffffff"/>
              </a:solidFill>
              <a:latin typeface="Constantia"/>
            </a:endParaRPr>
          </a:p>
        </p:txBody>
      </p:sp>
      <p:pic>
        <p:nvPicPr>
          <p:cNvPr id="253" name="Title 1" descr=""/>
          <p:cNvPicPr/>
          <p:nvPr/>
        </p:nvPicPr>
        <p:blipFill>
          <a:blip r:embed="rId2"/>
          <a:stretch/>
        </p:blipFill>
        <p:spPr>
          <a:xfrm>
            <a:off x="219240" y="1427040"/>
            <a:ext cx="877860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mai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st Serv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lletin Boar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logs</a:t>
            </a:r>
            <a:endParaRPr b="0" lang="en-US" sz="2600" spc="-1" strike="noStrike">
              <a:solidFill>
                <a:srgbClr val="ffffff"/>
              </a:solidFill>
              <a:latin typeface="Constantia"/>
            </a:endParaRPr>
          </a:p>
        </p:txBody>
      </p:sp>
      <p:pic>
        <p:nvPicPr>
          <p:cNvPr id="271" name="Title 2" descr=""/>
          <p:cNvPicPr/>
          <p:nvPr/>
        </p:nvPicPr>
        <p:blipFill>
          <a:blip r:embed="rId2"/>
          <a:stretch/>
        </p:blipFill>
        <p:spPr>
          <a:xfrm>
            <a:off x="255600" y="146160"/>
            <a:ext cx="843768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txBox="1"/>
          <p:nvPr/>
        </p:nvSpPr>
        <p:spPr>
          <a:xfrm>
            <a:off x="457200" y="1523880"/>
            <a:ext cx="8229600" cy="4572000"/>
          </a:xfrm>
          <a:prstGeom prst="rect">
            <a:avLst/>
          </a:prstGeom>
          <a:noFill/>
          <a:ln w="0">
            <a:noFill/>
          </a:ln>
        </p:spPr>
        <p:txBody>
          <a:bodyPr lIns="90000" rIns="90000" tIns="46800" bIns="46800"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 method of exchanging digital messages.</a:t>
            </a:r>
            <a:endParaRPr b="0" lang="en-US" sz="24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mail systems are based on a store-and-forward model in which e-mail computer systems accept, forward, deliver and store messages on the behalf of users, who only need to connect to the e-mail infrastructure typically an e-mail server with a network-enabled device (e.g. – a personal computer) for the duration of a message submission or retrieval.</a:t>
            </a:r>
            <a:endParaRPr b="0" lang="en-US" sz="24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Originally email was transmitted directly from one user’s device to another’s; nowadays this is rarely the case.</a:t>
            </a:r>
            <a:endParaRPr b="0" lang="en-US" sz="2400" spc="-1" strike="noStrike">
              <a:solidFill>
                <a:srgbClr val="ffffff"/>
              </a:solidFill>
              <a:latin typeface="Constantia"/>
            </a:endParaRPr>
          </a:p>
        </p:txBody>
      </p:sp>
      <p:pic>
        <p:nvPicPr>
          <p:cNvPr id="255"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message “Header”, which contains control information including minimally an originator’s email address and one or more recipient address</a:t>
            </a:r>
            <a:endParaRPr b="0" lang="en-US" sz="26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message “Body”, which contains the e-mail’s contents.</a:t>
            </a:r>
            <a:endParaRPr b="0" lang="en-US" sz="26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xamples: forms of parent-teacher communication, administrators to faculty, companies to customers (such as: Scholastic book orders to teachers)</a:t>
            </a:r>
            <a:endParaRPr b="0" lang="en-US" sz="26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1200" spc="-1" strike="noStrike">
                <a:solidFill>
                  <a:srgbClr val="ffffff"/>
                </a:solidFill>
                <a:latin typeface="Constantia"/>
              </a:rPr>
              <a:t>Source: Wikipedia</a:t>
            </a:r>
            <a:endParaRPr b="0" lang="en-US" sz="12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57" name="Title 2" descr=""/>
          <p:cNvPicPr/>
          <p:nvPr/>
        </p:nvPicPr>
        <p:blipFill>
          <a:blip r:embed="rId2"/>
          <a:stretch/>
        </p:blipFill>
        <p:spPr>
          <a:xfrm>
            <a:off x="219240" y="146160"/>
            <a:ext cx="870552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st useful internet power tool in existence.</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se list serve in conjunction with your website to “push” your message to your target audience and promote traffic to your audience at the same tim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59"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ducational institutions use List Serves to communicate with studen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sociations use List Serves to notify their members of meetings and even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ftware companies use List Serves to notify their registered users of product updates.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nstantia"/>
              </a:rPr>
              <a:t>Source: listserve.com</a:t>
            </a:r>
            <a:endParaRPr b="0" lang="en-US" sz="1200" spc="-1" strike="noStrike">
              <a:solidFill>
                <a:srgbClr val="ffffff"/>
              </a:solidFill>
              <a:latin typeface="Constantia"/>
            </a:endParaRPr>
          </a:p>
        </p:txBody>
      </p:sp>
      <p:pic>
        <p:nvPicPr>
          <p:cNvPr id="261" name="Title 2"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457200" y="1523880"/>
            <a:ext cx="8229600" cy="4572000"/>
          </a:xfrm>
          <a:prstGeom prst="rect">
            <a:avLst/>
          </a:prstGeom>
          <a:noFill/>
          <a:ln w="0">
            <a:noFill/>
          </a:ln>
        </p:spPr>
        <p:txBody>
          <a:bodyPr lIns="90000" rIns="90000" tIns="46800" bIns="46800"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computer system running software that allows users to connect and log into the system using a terminal program.</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nce logged in, a user can perform functions such as, uploading and downloading software and data, reading news and bulletins, and exchanging messages with other users, either through electronic mail or in public message boards.</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ny BBSes also offer on-line games, in which users can compete with each other.</a:t>
            </a:r>
            <a:endParaRPr b="0" lang="en-US" sz="2600" spc="-1" strike="noStrike">
              <a:solidFill>
                <a:srgbClr val="ffffff"/>
              </a:solidFill>
              <a:latin typeface="Constantia"/>
            </a:endParaRPr>
          </a:p>
        </p:txBody>
      </p:sp>
      <p:pic>
        <p:nvPicPr>
          <p:cNvPr id="263"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BSes with multiple phone lines often provide chat rooms, allowing users to interact with each other.</a:t>
            </a:r>
            <a:endParaRPr b="0" lang="en-US" sz="26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iginally BBSes were accessed only over a phone line using a modem, but in the early 1990’s some BBSes allowed access via Telnet, packet switched network, or packet radio connection.</a:t>
            </a:r>
            <a:endParaRPr b="0" lang="en-US" sz="26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xamples: Teachers in a secondary or college level could provide a place for students to upload and download software, read news and bulletins, as well as exchange messages.</a:t>
            </a:r>
            <a:endParaRPr b="0" lang="en-US" sz="26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nstantia"/>
              </a:rPr>
              <a:t>Source: Wikipedia</a:t>
            </a:r>
            <a:endParaRPr b="0" lang="en-US" sz="1200" spc="-1" strike="noStrike">
              <a:solidFill>
                <a:srgbClr val="ffffff"/>
              </a:solidFill>
              <a:latin typeface="Constantia"/>
            </a:endParaRPr>
          </a:p>
        </p:txBody>
      </p:sp>
      <p:pic>
        <p:nvPicPr>
          <p:cNvPr id="265"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blog or “weblog” is a type of website, usually maintained by an individual with regular entries of commentary, descriptions of events or other material such as graphics or video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ny blogs provide commentary or news on a particular subject; others function as more personal online diari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typical blog combines text, images, and links to other blogs, web pages, and other media.</a:t>
            </a:r>
            <a:endParaRPr b="0" lang="en-US" sz="2600" spc="-1" strike="noStrike">
              <a:solidFill>
                <a:srgbClr val="ffffff"/>
              </a:solidFill>
              <a:latin typeface="Constantia"/>
            </a:endParaRPr>
          </a:p>
        </p:txBody>
      </p:sp>
      <p:pic>
        <p:nvPicPr>
          <p:cNvPr id="267"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ost blogs are primarily textual, although some focus on art (Artblogs), photographs (photoblogs), videos (video blogging), music (MP3 blogs) and audio (podcasting).</a:t>
            </a:r>
            <a:endParaRPr b="0" lang="en-US" sz="24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icroblogging is another type of blogging, featuring very short posts.</a:t>
            </a:r>
            <a:endParaRPr b="0" lang="en-US" sz="24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xamples: older students could read an article and then post their response on a blog, teachers could have a blog with the parents to discuss upcoming events, or a teacher at a secondary level could post homework assignments and then students could ask questions.</a:t>
            </a:r>
            <a:endParaRPr b="0" lang="en-US" sz="2400" spc="-1" strike="noStrike">
              <a:solidFill>
                <a:srgbClr val="ffffff"/>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Source: Wikipedia</a:t>
            </a:r>
            <a:r>
              <a:rPr b="0" lang="en-US" sz="2400" spc="-1" strike="noStrike">
                <a:solidFill>
                  <a:srgbClr val="ffffff"/>
                </a:solidFill>
                <a:latin typeface="Constantia"/>
              </a:rPr>
              <a:t> </a:t>
            </a:r>
            <a:endParaRPr b="0" lang="en-US" sz="2400" spc="-1" strike="noStrike">
              <a:solidFill>
                <a:srgbClr val="ffffff"/>
              </a:solidFill>
              <a:latin typeface="Constantia"/>
            </a:endParaRPr>
          </a:p>
        </p:txBody>
      </p:sp>
      <p:pic>
        <p:nvPicPr>
          <p:cNvPr id="269"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8:09:28Z</dcterms:created>
  <dc:creator>ozzy</dc:creator>
  <dc:description/>
  <dc:language>en-US</dc:language>
  <cp:lastModifiedBy>Customer</cp:lastModifiedBy>
  <dcterms:modified xsi:type="dcterms:W3CDTF">2009-11-01T23:46:48Z</dcterms:modified>
  <cp:revision>10</cp:revision>
  <dc:subject/>
  <dc:title>Slide 1</dc:title>
</cp:coreProperties>
</file>